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351-61BC-4BB6-806F-F0245F20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546-22D3-458F-B268-2946E858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818A4-8BB8-4373-B51E-2BC1A609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45102-8884-4376-AC68-D753D36F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2E7BD-332B-46ED-BDC8-8689AFFB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A4144-FA15-4E7B-AE65-6E3EAA44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CFF51-9D1B-4819-88C5-2F25714E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348D6-D061-48C5-8D9B-6082A8CF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2A4C7-2798-44A4-9B31-1DAEC15D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33269-1FF9-4910-ACB3-7B0D4981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A0AD7-D2F1-4FF9-A675-4DA79F18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D3C32-41C5-40A3-99AB-9721E1AD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1E6-CA54-4B6F-BA95-9C4B375A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294B2-524D-4B9B-92AF-D8C9AA29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4A13E-2EA1-4D7D-830F-1A588D9D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A3D2E-8057-4CA1-B7C8-8EB6B220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5B637-A251-434E-B2E1-2C6D559C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75347-6F95-4886-9F9E-B10733A8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D0FBE-1178-4581-8D6C-CED26059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D7963-A1C1-4F7A-B0CE-4E1E38DC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966EC-CA52-492B-940A-F1F7D236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CAF61-0DA1-428B-80DF-9C91D8B4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AD296-34C0-4545-8B08-A84FD661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987-0FAF-446E-8472-2549452B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AC287-9D94-44BB-9069-E29197C3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50893-6D38-4D3C-B5D2-B4DCBB4F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509FE-17C7-4EA6-9570-FECC4A3F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C81EC-87CA-4731-B3C5-16A7C53F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2E255-58C5-4440-A572-9CD48982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A33B2-B654-4F23-8F56-72CF38C9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2FB6E-1508-41AE-99E6-33E291CB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6F473-67F5-49C9-B381-7B3A3B24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1880C-626E-45D1-9012-7D52DBFE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3E703-F010-4096-B129-1F1DAFDF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7035-E930-4BCE-9F3B-BAB181B9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690DD-B576-43B5-9055-44F805DE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4C8A5-24C7-4976-88FC-B811FA85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0384E-0B49-40AD-9276-6D708844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75239-BF8F-4286-B2C3-37A1E634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F4B3A-6AF7-4C53-AFC9-7EDAEE37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4B00F-8403-476E-86BD-29E6AA57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729C4-47C0-4618-8619-E952E328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B9101-7AEB-4339-A7D9-4A471259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D3F52-9877-4090-BC79-2C08BF65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FF6AD-4A96-4F5E-8612-F1E801A6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6EB0-8851-4BF1-883D-9C922584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EA891-5438-4E39-B488-3E2DC42A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53BE7-C41B-4101-8468-8CC5E785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72380-0460-461B-A203-1A2F0DB0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63CE9-C124-408D-B3E6-4C980D41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5096D-8D63-404D-B1DB-2DD453AB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DB83F-941D-4969-8DEF-F59C5D88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DCBA5-F312-48DE-A6F0-73F8598C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CF7C5-A667-4864-9FCD-4FF07C84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5534C-A56D-4A1F-860E-8DA80952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9CA1C-2304-4C7B-9397-D5150A2C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E3FA-E92F-48EA-9994-16694E9F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9D873-6E81-458B-92E7-0336E692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4CF9E-F8D3-47DE-964E-8BF0B607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D2181-C083-4720-BF57-E99D18A7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0F75B-3C90-43B7-8ECB-C99A966E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74B8E-5540-44CA-A0F9-A2CE6DB9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90E32-68FE-4194-8B54-B6A4BED1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6CA9D-6C21-4B50-9A09-B30479AB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0EAB90-288E-4DC3-823E-D4AC2432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DACB7-2AD0-40AE-8DFD-92A4F8A5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9013E-80C7-474A-B3F0-49B9CFCB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F4F4-77D1-4E9F-8B3B-A6A33E28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FB04C-21C1-461D-BE9C-FA9049A0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670931-5AE7-4951-BFCA-DE530EBE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1883B-71B0-47CC-87FF-4637157B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AE08D-73B3-4BB7-9DEF-98D6CEB6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9F28D-298D-4B24-B9EB-5062F227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FD3B3-0632-46E4-A9B6-7140EC44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BACC1-F051-41BC-99F4-D0DCA066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FB6AE-958B-402E-A7D3-A0870210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B17EC-4401-4C68-8281-A9BD636A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ACDFF4-67F0-4296-8B3F-03FC5E7F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8A3B-C45A-4721-A868-0D5CF44A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133EEE-D7B9-487C-AB9F-FE418542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3196C2-718E-4AC0-9012-F0310869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4F63D-0006-448C-AE38-42EFC0F0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0E504-59B5-4981-A9A9-95CBA296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607EDE-5230-49CA-AD60-BE10B6DD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9E15B-C71D-4071-9373-AAC50FF5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54446-FFAF-47A6-B34D-8DB9166D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3A474-BEA6-4545-A6E6-CDCFCBD5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3D4F9-A156-42F9-9A59-A2E44039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CA4B46-DB93-4ECF-A419-72F74433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CC7B-CDA5-4044-96DC-9C9C2AFD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3B055-A18A-47B8-A74A-721843C6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A9F74-460A-40B9-8EC9-A7F95092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1B357-4A67-49AB-A819-02E69CC0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310411-3BBC-4D45-8776-C4CFC018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CD2AA-679A-4C05-A0F1-8CF4075B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5E8E2-2430-4ABD-990A-D77146B9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0009D2-E7FD-44A7-A2F7-551B5867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3EB5C5-D7A5-403E-9024-5639EEF0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6FC290-1E8A-4CD7-A760-EAB91DF1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B16CE-5DD4-49AB-A514-9E1AF39F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7779-F0A8-4AF6-9224-E5805467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73AB28-4C19-453D-B02A-2AC7031D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F39C4-3660-4CB6-9763-8D7794FE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B252F2-7274-4037-9ACE-841A756C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2F4DD1-7A22-49B8-9137-478A0849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FB995-941B-4ED2-87F2-899B8E76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F9920B-1E66-462C-A086-EF17BB45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2A7873-78E8-42E2-89C8-EEF429A1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B2432-4C9A-4A17-B85A-C1841462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4D4F80-2B96-40D6-8047-6D3C7411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9C3607-4A1F-47FC-9B50-FB49D3D1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C0F-B778-4870-9CE9-E6088CD7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19CF-B17E-4AC0-BC95-5C2C7BB2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2095A-346D-47C7-9C84-3BD345BE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BFCAA-5E8B-4B5A-A309-C5E833C5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16CCC0-1D2B-4E0A-AE2E-5D8EA393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5B42B6-5DE9-4D0A-9B65-B1D51DCC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BC805A-DBA0-47EC-8EBF-E1604024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849FB2-BC28-4E3D-9B0C-187A127D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D842D6-9784-49F8-B441-865D4A0F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7C6BC4-CFFE-4626-8FB2-914A6218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1266A7-1D0D-46B5-84D6-C969DE1D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5D478-2B30-437D-B7A6-48E7C265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3FF1-5184-41D5-B143-55BCF235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AD433C-702D-48BD-99B6-0FE0DEBA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CC3962-FB50-44AD-A388-01FF26BC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09E97C-F435-4108-8C0B-69AE6EA0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0B7E95-2024-40D6-83F9-9CA541CD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60845A-3FC2-4B93-A14B-5CCE0144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42E659-F100-4DE5-ADCF-91D53F48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6D6218-4F34-4525-8365-E140C415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B61C30-3B18-4C27-B0AD-06EDA7F5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1CCFC-EC55-408B-A4F0-8704FDC0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5DB9E-F970-4061-A070-3347543D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1B76-B17A-43F8-B0AE-204F8205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BCD33A-A5EE-48D4-A19B-9300959C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06F90-1C48-409B-9BEB-0ED6C3E3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649061-C8E0-49D3-BEC4-48F7F36E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FEFFDB-8669-46F1-97DE-11A06A07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DE93DE-2A88-4848-A50B-7982A0E3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E6756E-9E36-4BC3-A1E7-93280BFB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C27F48-4790-479E-8C62-5342B018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508949-9A83-4C45-9BE6-8F3B5A91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0AB95C-B9C2-41D3-A806-A78DC95C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1C1BEC-8317-4AD3-9EB3-B1F678B4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ABFC-1A57-4AE7-BB27-F9157BC0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21A6AC-C8D1-486D-9DDA-5CA3935B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0A6D6A-5380-4D92-BED0-B8382996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430687-C954-4C83-9234-C7A163C2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ADC5C2-FD7B-48B4-8250-F5E8A2F0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44BAD9-C6F4-4BA4-97D9-A272AFB1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09C505-CB83-4E2B-A93F-CF71E329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04DBCC-CC1C-468C-AC30-051E99DE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509CEB-DABA-435A-9B74-075FE133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EBAC7C-C7A0-434D-ADD0-C3D57FB0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0B701F-6727-4C9E-BA98-DB2CCD42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B908-14DC-4DD0-A6BC-B87BF4AF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597745-BCCD-470B-B204-39786A29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275452-5E31-4771-A3A7-E5CC2F5E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0F7750-A4BD-4261-ADCF-29F81BCE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D7B1C7-5632-4C9B-B3F9-A9135617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1F1CE-0628-4E45-B6AA-3C51A40D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D894F9-1E82-44F5-84EB-92BAC855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6323E4-DD81-4FC9-801A-E39C6E02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8C6BC5-E881-40DC-BE73-1DD08851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5E805C-9FD2-4A87-A3CB-D01DB53C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28B39D-B56C-4FE0-99BD-AE53E1DF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44440-6FBC-498F-8ACB-29478B18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3F2F59-BF8C-4BD1-B518-525E5216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69808B-9599-4ECB-B13B-4DA35B18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6F66AF-8FD6-4B79-9733-E8433956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16AC5-71D1-48DB-B509-CDE386CF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E7C03-4465-4180-A184-9E7DC5F2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4AC89-A189-4BFC-9AEA-EECE8299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3DAE-C189-40D4-A008-5BE15B36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EEE-E096-4C60-82F0-A33C073D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58B33-CDDD-465F-98C3-24A64281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69AA4-6727-4CC0-962E-CD224F58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1FFFD-BFF8-42E1-B3D0-F8DDDACF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75AE0-543C-49CA-A367-9C584A21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02A9E-4D10-473D-8492-E65BA170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9512E-ED66-454B-B004-65F76F42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D030-1A73-46D0-9CE7-63FA8C09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EAA4E-258F-4690-B2D3-14C17818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B5207-7CD5-49AB-9528-DE180687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017F0-4001-4EAB-99B2-F5DDEE23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371-F5E7-457E-B72F-B2C9D264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AEC39-E104-46C3-84C9-AEB996A6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2DEBD-E9B2-4765-8AF6-E0BD85DA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8BF49-41DB-4D55-93AE-AC27576D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AF428-DB01-452F-93BB-CFA6EE4F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9E054-3D2A-44F0-83C6-FD93F33C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56EC0-436B-48DD-BDAA-6F863FF6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0ADC5-EBB6-4B53-8089-3DF16B4F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B3D7E-A0FF-4F0C-967F-852EB2DA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F50F2-C0B9-47A5-B955-E13AEF6D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F2C83-2E3D-403B-A85E-575304F8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A18-F2C9-4717-966D-BBDD39AC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91BBB-0BFD-48BC-BD2C-0BD90D56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3740D-55E6-4DFF-AA71-3540384C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BE2E5-FBF1-422B-A5AC-87C0373E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FF65A-AEB4-4449-B7C3-ABFD9825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8DD00-D52F-4368-A187-54DD7A9A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E17F9-E994-49D2-812E-B62EA881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54132-D382-4939-80F1-58632201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30D77-81D5-4EC7-8D8F-003B944C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38E11-7AE1-4447-AAAA-753923DD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4A004-A09A-46D7-8685-605234A3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8DD-6CB6-4712-A565-F89B4E56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7756A-3DBF-4725-8CDF-5DFD95CF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DB2A5-AB0E-411F-A53E-79B98E09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DD7C5-0B6E-446E-B1A4-EDF8A376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D13C6-A8AF-41C0-B6EB-93B423A0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69EE7-4B87-4D65-B424-7DFDADB9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AF8FD-1C33-4DD6-BC80-B7621493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A2170-E29D-4E8A-B803-EEFBF3EB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82AC4-5F11-48C1-A7B6-17A30798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F67EF-5C1E-4BEA-BCAA-42F5E26E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AA637-0321-4AFF-B4C0-50450A98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727-8B94-42D3-BD92-8437BAFF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8C768-6B36-49A2-AD8A-10ECF6B3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C493C-D89D-4735-816E-F35BC594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5C509-41DF-4F12-908D-F05A6528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66DFB-4340-4BE6-95AD-70C2D9F7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1141E-71C5-4684-8FA2-C7B438F4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3D29A-D65C-45D3-9F91-3B174764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F2184-31B6-438C-8579-9F0E47AD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E46FB-7E2E-4393-B629-0B8A2CD6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58BC2-F67D-4982-AF62-BC1B8EF4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A37A4-2A45-47E8-A0C2-99AAC8A4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A2B-EB50-4C41-84E4-E6839603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124D8-288B-4734-BC34-719E1DDB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A78E5-4D95-4911-A8D9-FCA38F77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DFEB7-A41A-4AAE-9A44-B7035482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B1240-78F6-4171-8540-F7CACF5A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257CF-DC16-406E-90BE-98FA4E2F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E435D-CAC9-4347-A95D-CAF0B286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95DE4-4B24-4369-9E4C-715E96E4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9DE5B-E8D0-46CE-8EE2-BB991109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9E480-806B-471C-B3F1-AED4E916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D4C72-E01A-490B-A6C6-8E7BDD37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1C1-EF17-425E-A73A-63EF6ACA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D9268-D200-4847-87F3-568D753F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4DC4D-7BE2-479D-A34C-75DA2F15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72502-55BC-4FE9-88AE-C55BEB3F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418A7-625B-4CB0-8BD1-D578F207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E43A7-F948-4103-AE6F-61C61369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905CC-AB66-4F87-8E6D-53E83218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36ABA-2BE3-4958-8248-17FD3B1E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31E6D-2F2A-4F27-AD43-871BBB14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3428D-4B7D-4D2E-B21F-2B5DBAE2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4FDBB-C2C2-4F84-A2CE-26DF72C9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0B5F-6A18-4AD0-B659-56D614CC91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ED8B-3903-4476-9C58-8CB6214A55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7EAE-2E08-4FDD-BE27-370C420C6F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2C11-42A2-42B4-A3D0-B04725219D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29FF-76F0-47BE-AF54-AED1D6997B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A009-F7AA-4A40-A36A-F7C7FD9858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0EB6-D470-4F5E-9E52-8F32D81AE8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DBB7-3D26-48DB-8F88-ED1AB463A1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9B36-C76B-4731-9FA4-ED62CD4555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AA6C-DC93-4B39-AC41-47D349D555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4023-21F6-4ECE-A0E6-E2AA303C63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A746-DD02-4682-9B8E-50BA9C14D0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5FB4-8516-4794-9E65-62FE0A7C73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CD8E-BD73-4DD5-8623-5B5389094A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1C56-C23C-46E4-A4D4-41118D705D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459D-8142-4DF6-ACF6-443E07D5E5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CAB5-6FC6-465B-B945-BDC248CB37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BE5E-194D-4764-A4A1-962164E87C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1885-B162-4D54-89B9-3705852990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1DB9-D8E4-42A7-ACCF-910E649586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7BBC-7437-4241-AF4C-9799BE6E33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F22C-B4FE-4D3A-8BA2-BF91FCF99B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FC99-A35A-458C-AE83-6B42496686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7253-FB3E-464D-9299-C416569BCD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E4E7-1935-4DF1-A822-31A2564477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CF80-ACAC-4C41-A6D6-A14FCAA067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99FA-9105-4346-AF6A-A58C82A1B7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F3C6-9A6B-40F0-92D4-8F068FA06D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898C-F344-4757-BC4D-0E70DB3044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B48A-D22C-424F-AF07-7B896997E1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6327-E92F-484D-81E5-D45AA10E7A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E5F6-E363-4BB7-ACE3-F5E6F33200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96D3-DA80-4A3F-9FEE-92DF3BFCB1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1313-A0DB-419E-9A12-E770D0B2A0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F000-CF11-4526-AE86-48AC5EBAEE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7072-7279-47B4-863C-CEA6E3C64A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A168-E1A5-4ABF-A8FA-7D7E781FC6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AB6C-990E-480B-8484-8C7371D291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E4A3-5191-4402-A500-0EF1FF2511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D1B4-940F-4675-B334-D7974FF7FD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195720" y="3186000"/>
            <a:ext cx="275256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42920" y="720720"/>
            <a:ext cx="8858160" cy="5877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447920" y="184464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409920" y="1854360"/>
            <a:ext cx="432000" cy="301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416560" y="190656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380360" y="187812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547640" y="226692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419640" y="226692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407200" y="2276640"/>
            <a:ext cx="431640" cy="301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380360" y="2257560"/>
            <a:ext cx="431640" cy="3013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468360" y="3087720"/>
            <a:ext cx="2663640" cy="3016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395280" y="3490920"/>
            <a:ext cx="5040360" cy="3016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179280" y="5950080"/>
            <a:ext cx="5040360" cy="3013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179280" y="6308640"/>
            <a:ext cx="504036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9410" descr=""/>
          <p:cNvPicPr/>
          <p:nvPr/>
        </p:nvPicPr>
        <p:blipFill>
          <a:blip r:embed="rId1"/>
          <a:stretch/>
        </p:blipFill>
        <p:spPr>
          <a:xfrm>
            <a:off x="147600" y="961920"/>
            <a:ext cx="8848800" cy="49341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176720" cy="3016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4176720" cy="3016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324000" y="3222720"/>
            <a:ext cx="4176720" cy="3016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684360" y="3635280"/>
            <a:ext cx="4392360" cy="3016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684360" y="4724280"/>
            <a:ext cx="4392360" cy="3016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684360" y="5094360"/>
            <a:ext cx="4392360" cy="3016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684360" y="5516640"/>
            <a:ext cx="439236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18:4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